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B64B-B0F1-4B8F-B2FD-6118B20FB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C2AD-6357-4190-B616-5C11168CB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3288-004C-4B0D-9A30-12BB3CD78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8DE5-9B95-4611-A64A-4CFD8AF19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766FC-63D6-4DE0-8F0C-8495E7968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E12D6-7CCE-4A2D-8C6C-35FDE7E11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A9814-078F-4EBE-AE37-D4FFCF440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FA306-8C34-4321-8132-24A643E7B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54AC0-1C55-48BE-B7C3-3EC707750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A467C-3063-45F2-AFB0-368116D1D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46ADE-82FC-468C-A1BA-E343F2EEC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B775-4EC3-426D-8857-07EBE7A1F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1CAE7-7EC3-4461-BCB8-896FFFCA2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08697-13C3-4730-B486-428ED8811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36A3A-F3A0-4FCD-A6E3-DEBD247D4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6881B-3624-4DDC-ADBB-E9AC991A5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AB9BC-E5AC-459A-BA59-7EE7575E6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9771-DDDB-4FDB-ACB2-866F9E4CD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331B-0694-4E96-B84C-EBACCA61E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BADD-3401-4222-A400-F9ED2BA9E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006C-BEE4-43B4-B450-441E5A122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0833-0667-42D4-9528-FE8C86BBE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6205-0793-44E5-8286-B2AFB0D99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C80E-39C0-48B3-8940-2C29A092F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ADB50-B997-4ECC-BF9C-BE5E445E435A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971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EA8B8-387D-43B1-8BD9-362E069CA710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971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ff"/>
                </a:solidFill>
                <a:latin typeface="Arial"/>
              </a:rPr>
              <a:t>VIRUSNE HEMORAGIČNE GROZNI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4727160"/>
            <a:ext cx="64008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Prof. dr Branislav Petrovi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ff"/>
                </a:solidFill>
                <a:latin typeface="Arial"/>
              </a:rPr>
              <a:t>Suzbijanj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Prijavljivanj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Hospitalizacija i lečenj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Prevoz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DD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Epidemiološko ispitivanj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Laboratorijska dijagnostik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Karantin (14 dan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ff"/>
                </a:solidFill>
                <a:latin typeface="Arial"/>
              </a:rPr>
              <a:t>Definicij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Virusne hemoragične groznice pretežno su prirodno-žarišne zarazne bolesti, kojima je zajednička kakrakteristika pojava hemoragičnog sindroma u akutnoj fazi oboljenj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ff"/>
                </a:solidFill>
                <a:latin typeface="Arial"/>
              </a:rPr>
              <a:t>Etiologij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Uzročnici su virusi, a najčešće iz grupe ARBO virusa, a mnogi još uvek nisu poznati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renaviridae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Lasa, Argentinska, Bolivijska i Venecuelanska H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unyaviridae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00"/>
                </a:solidFill>
                <a:latin typeface="Arial"/>
              </a:rPr>
              <a:t>Hantanvirus – HG sa bubrežnim sindromom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Nairovisrus – Krimsko-Kongo H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Phlebovirus: Rift Valley H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iloviridae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00"/>
                </a:solidFill>
                <a:latin typeface="Arial"/>
              </a:rPr>
              <a:t>Ebola virus – Ebola H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Marburg virus – Marburška H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laviviridae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Virus denge – Deng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00"/>
                </a:solidFill>
                <a:latin typeface="Arial"/>
              </a:rPr>
              <a:t>Virus žute groznice – Žuta groznic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Virus omske HG – Omska H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Kjasanur virus –Kjasanur šumska H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ff"/>
                </a:solidFill>
                <a:latin typeface="Arial"/>
              </a:rPr>
              <a:t>Izvor zaraz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59092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Razne divlje životinje, pre svega glodar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Čovek (Lasa, Ebola, Marburšk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Uzročnici bolesti nalaze se u krvi, mokraći, pljuvačci, spermi i drugim telesnim tečnosti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ff"/>
                </a:solidFill>
                <a:latin typeface="Arial"/>
              </a:rPr>
              <a:t>Putevi prenošenj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Vektori (komarci i krpelji; žuti groznicu prenosi komarac Aedes Aegipt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Kontakti sa životinjama i njihovim sekretima i ekskretima (HGB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Kontakt sa bolesnicima i njihovim telesnim tečnostima (Ebola, Lassa,Marburška boles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7621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00"/>
                </a:solidFill>
                <a:latin typeface="Arial"/>
              </a:rPr>
              <a:t>Ulazna vrata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: koža i sluzokoža</a:t>
            </a:r>
            <a:br>
              <a:rPr sz="2800"/>
            </a:br>
            <a:br>
              <a:rPr sz="2800"/>
            </a:br>
            <a:r>
              <a:rPr b="0" lang="sr-Latn-CS" sz="2800" spc="-1" strike="noStrike">
                <a:solidFill>
                  <a:srgbClr val="ffff00"/>
                </a:solidFill>
                <a:latin typeface="Arial"/>
              </a:rPr>
              <a:t>Osetljivost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: opšta</a:t>
            </a:r>
            <a:br>
              <a:rPr sz="2800"/>
            </a:br>
            <a:br>
              <a:rPr sz="2800"/>
            </a:br>
            <a:r>
              <a:rPr b="0" lang="sr-Latn-CS" sz="2800" spc="-1" strike="noStrike">
                <a:solidFill>
                  <a:srgbClr val="ffff00"/>
                </a:solidFill>
                <a:latin typeface="Arial"/>
              </a:rPr>
              <a:t>Otpornost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: Kod nekih bolesti iz ove grupe postoji imunitet koji nije dovoljno poznat; žuta groznica daje doživotan imunitet.</a:t>
            </a:r>
            <a:br>
              <a:rPr sz="2800"/>
            </a:br>
            <a:br>
              <a:rPr sz="2800"/>
            </a:br>
            <a:r>
              <a:rPr b="0" lang="sr-Latn-CS" sz="2800" spc="-1" strike="noStrike">
                <a:solidFill>
                  <a:srgbClr val="ffff00"/>
                </a:solidFill>
                <a:latin typeface="Arial"/>
              </a:rPr>
              <a:t>Inkubacija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: od 3-14, a po nekad i do 25 dana</a:t>
            </a:r>
            <a:br>
              <a:rPr sz="2800"/>
            </a:br>
            <a:br>
              <a:rPr sz="2800"/>
            </a:br>
            <a:r>
              <a:rPr b="0" lang="sr-Latn-CS" sz="2800" spc="-1" strike="noStrike">
                <a:solidFill>
                  <a:srgbClr val="ffff00"/>
                </a:solidFill>
                <a:latin typeface="Arial"/>
              </a:rPr>
              <a:t>Dijagnoza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: izolacija virusa i serološke reakcije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ff"/>
                </a:solidFill>
                <a:latin typeface="Arial"/>
              </a:rPr>
              <a:t>Klinička slik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Visoka temperatu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Glavobolj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Povraćanj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Makulo-papuloz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petehije po koži i sluzokož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Različita učestalost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lokalizacija i stepen hemoragij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Oštećenja drugih organa: srca, CNSa, bubrega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krvarenja" descr=""/>
          <p:cNvPicPr/>
          <p:nvPr/>
        </p:nvPicPr>
        <p:blipFill>
          <a:blip r:embed="rId2"/>
          <a:stretch/>
        </p:blipFill>
        <p:spPr>
          <a:xfrm>
            <a:off x="5181480" y="1905120"/>
            <a:ext cx="3810240" cy="26240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04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ff"/>
                </a:solidFill>
                <a:latin typeface="Arial"/>
              </a:rPr>
              <a:t>Raširenos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5715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Javljaju se svuda u svetu u većem ili manjem broju, endemski ili epidemijski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U Srbiji (VHGBS): KiM, Fruška go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Denga" descr=""/>
          <p:cNvPicPr/>
          <p:nvPr/>
        </p:nvPicPr>
        <p:blipFill>
          <a:blip r:embed="rId2"/>
          <a:stretch/>
        </p:blipFill>
        <p:spPr>
          <a:xfrm>
            <a:off x="228600" y="3772080"/>
            <a:ext cx="2971800" cy="2228760"/>
          </a:xfrm>
          <a:prstGeom prst="rect">
            <a:avLst/>
          </a:prstGeom>
          <a:ln w="0">
            <a:noFill/>
          </a:ln>
        </p:spPr>
      </p:pic>
      <p:pic>
        <p:nvPicPr>
          <p:cNvPr id="99" name="lasa" descr=""/>
          <p:cNvPicPr/>
          <p:nvPr/>
        </p:nvPicPr>
        <p:blipFill>
          <a:blip r:embed="rId3"/>
          <a:stretch/>
        </p:blipFill>
        <p:spPr>
          <a:xfrm>
            <a:off x="3505320" y="3581280"/>
            <a:ext cx="2222280" cy="25527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191120" y="60199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Lass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yellow_fever" descr=""/>
          <p:cNvPicPr/>
          <p:nvPr/>
        </p:nvPicPr>
        <p:blipFill>
          <a:blip r:embed="rId4"/>
          <a:stretch/>
        </p:blipFill>
        <p:spPr>
          <a:xfrm>
            <a:off x="6019920" y="3962520"/>
            <a:ext cx="2962080" cy="2425680"/>
          </a:xfrm>
          <a:prstGeom prst="rect">
            <a:avLst/>
          </a:prstGeom>
          <a:ln w="0">
            <a:noFill/>
          </a:ln>
        </p:spPr>
      </p:pic>
      <p:pic>
        <p:nvPicPr>
          <p:cNvPr id="102" name="ebola%2023" descr=""/>
          <p:cNvPicPr/>
          <p:nvPr/>
        </p:nvPicPr>
        <p:blipFill>
          <a:blip r:embed="rId5"/>
          <a:stretch/>
        </p:blipFill>
        <p:spPr>
          <a:xfrm>
            <a:off x="6019920" y="228600"/>
            <a:ext cx="2817720" cy="31240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6934320" y="2971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3333cc"/>
                </a:solidFill>
                <a:latin typeface="Arial"/>
              </a:rPr>
              <a:t>Ebo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ff"/>
                </a:solidFill>
                <a:latin typeface="Arial"/>
              </a:rPr>
              <a:t>Profilaks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Vakcinacija (Žuta groznica, Krimska i Rift Valley HG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Nespecifične mer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Sprečavanje kontakta sa divljim životinjama (glodarima) i insekti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Uništavanje insekata i gloda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Sprečavanje kontakta namirnicai vode sa sekretima i ekskretima gloda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Higijenska dispozicija otpadnih materij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Upotreba ličnih zaštitnih sredstav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0T08:22:41Z</dcterms:created>
  <dc:creator>IZJZ</dc:creator>
  <dc:description/>
  <dc:language>en-US</dc:language>
  <cp:lastModifiedBy>IZJZ</cp:lastModifiedBy>
  <dcterms:modified xsi:type="dcterms:W3CDTF">2009-01-12T07:19:30Z</dcterms:modified>
  <cp:revision>3</cp:revision>
  <dc:subject/>
  <dc:title>VIRUSNE HEMORAGIČNE GROZN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