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15A-2CEF-41A7-8DEA-42FCA28F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6FC-F080-4DCD-9B64-C3FCA177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A17-DAA8-4CA1-8F51-6EC63D84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7BF-0B95-48CC-8D33-0C873855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EAE-D8F3-42C8-A324-E8BA017D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9F6-E2C3-489A-BB11-2D05F90E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51B9-6FCD-40A7-86F7-7090ED39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5B6-B384-438A-B7FC-2E357007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B9B-E285-40A0-BA14-03907791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6E8-90F1-4F3F-ABF6-97E1497D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645-452B-43A2-9E58-F900FFCF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223-2B04-4C0C-B57C-13DE97A1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9701-B5B4-47E6-B98E-D933EDB09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73400" y="685800"/>
            <a:ext cx="436716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pidemiologija transmisivnih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ovek</a:t>
            </a: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 se</a:t>
            </a:r>
            <a:r>
              <a:rPr b="0" lang="en-US" sz="24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 slu</a:t>
            </a: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ajno zara</a:t>
            </a: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ava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borav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u prirodni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ima. To se naj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ešće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dogadja </a:t>
            </a:r>
            <a:r>
              <a:rPr b="0" lang="en-US" sz="24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izletnicima,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turistima, planinarima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, ali transmisivne bolesti mogu biti i </a:t>
            </a:r>
            <a:r>
              <a:rPr b="1" lang="en-US" sz="24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profesionalne bolesti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mara, lovaca, lov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vara, zemljoradnika i st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a, tj. svih onih koji rade na otvorenom prostoru, u prirodni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ima transmisivnih bolesti. Ne treba zaboraviti da se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ci nekih transmisivnih zaraznih bolesti i njihovi vektori mogu 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i u </a:t>
            </a:r>
            <a:r>
              <a:rPr b="0" lang="en-US" sz="24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gradskoj sredini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(u parkovima, na travnjacima), ka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o je to sl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 sa Lajmskom bol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ć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ji je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 borelija Burdorgferi, a vektor krpel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5105520"/>
            <a:ext cx="2724120" cy="1617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429000" y="5105520"/>
            <a:ext cx="2438280" cy="1623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248520" y="5029200"/>
            <a:ext cx="220968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retanje uzro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č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nika, rezervoara ili vektora mo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e se odvijati i u pravcu ljudskih naseobina.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Tr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eći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hranu divl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i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votinje se mogu veoma pribl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ti ljudskim naseljima (na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ešće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seoskim), ali i ako se prev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namn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(ili u nedostatku glavnog dom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a) i vektori  u v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m broju mogu da se pojave u naseljima gd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e ljudi. Na taj n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 se prirodno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e iz “divlje prirode” pribl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 urbanim prostori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Pacovska buva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parazitira na pacovima. Kod pojave kuge medju pacovima, s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krv buve se i same inficiraju. Medju obolelim pacovima nastupa pravi pomor, a buve se sele na nove, j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nezar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e pacove kojima prenose opaku bolest. Kada se populacija pacova toliko smanji (epizootija kuge medju pacovima), buve tr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nove dom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e, pa tako prelaze i n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a, izazivaj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oboljenja i kod njih (bubonska kuga). Kasnije, medju ljudima, kuga s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ri aerogeno, dovod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do pl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og i sept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og oblika boles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Najčešći vektori transmisivnih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777240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rakteristike epidemija transmisivnih bole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sve epidemije taransmisivnih bolesti su </a:t>
            </a:r>
            <a:r>
              <a:rPr b="1" lang="en-US" sz="18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sezonskog karaktera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i vezane su za najve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aktivnost vekto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broj obolelih, obi</a:t>
            </a: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č</a:t>
            </a:r>
            <a:r>
              <a:rPr b="1" lang="en-US" sz="18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no nije veliki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, mada se mogu javiti i ve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epidemije (malarije, kuge,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te groznice,pegavca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pidemije se obi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o javljaju </a:t>
            </a:r>
            <a:r>
              <a:rPr b="1" lang="en-US" sz="18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u prirodnim </a:t>
            </a: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ž</a:t>
            </a:r>
            <a:r>
              <a:rPr b="1" lang="en-US" sz="18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ari</a:t>
            </a: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š</a:t>
            </a:r>
            <a:r>
              <a:rPr b="1" lang="en-US" sz="18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tima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transmisivnih bolest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pojedine epidemije transmisivnih bolesti javljaju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se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u vanrednim situacijama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(npr. epidemija pegavog tifusa u ratnim uslovim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najmasovnije epidemije se javljaju u tropskim oblastima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(filarijaza, tripanozomijaza, malarij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epidemijama </a:t>
            </a:r>
            <a:r>
              <a:rPr b="1" lang="en-US" sz="18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obligatno transmisivnih bolesti oboljenje se ne prenosi sa </a:t>
            </a: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č</a:t>
            </a:r>
            <a:r>
              <a:rPr b="1" lang="en-US" sz="18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oveka na </a:t>
            </a: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č</a:t>
            </a:r>
            <a:r>
              <a:rPr b="1" lang="en-US" sz="18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oveka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, madutim kod fakultativno transmisivnih, pored vektora kao putevi preno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ja uzro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 mogu biti i kontakt, voda, vazduh, zemlji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e ili hr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akon zavr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tka epidemija, bolest se u zahva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om podru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ju </a:t>
            </a:r>
            <a:r>
              <a:rPr b="1" lang="en-US" sz="18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endemizira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Roman YU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ajzna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nije mere usmerene prema vektorima bolesti s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Roman YU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dezinsekcij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Roman YU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su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1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anje mo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vara i bar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Roman YU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potreba repelenata (sredstava koja odbijaju insekt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Transmisivne (vektorske)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i pojedinih zaraznih bolesti se sa obolelog na osetljivu  osobu prenose  i pom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re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h organizama - vekto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oji su iz roda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zglavkara (arthropoda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dju njima su najv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ji iz klas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sekata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ovaj n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 prenose bolesti od kojih boluju i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otinje i ljudi 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ntropozoono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li i bolesti od kojih boluje samo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k 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ntropono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Uzr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i ovih bolesti su razl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i mikroorganizmi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akterije, rikecije, virusi ili protozo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eke bolesti koje se prenose vektorima mogu se prenositi i na druge n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e : dodirom, hranom, p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om (tularemija) i one se nazivaju </a:t>
            </a:r>
            <a:r>
              <a:rPr b="1" lang="en-US" sz="32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fakultativnim</a:t>
            </a:r>
            <a:r>
              <a:rPr b="1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vektorskim (transmisivnim) bolestima. Za razliku od njih, one koje se prenose isklj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 vektorima (malarija, pegavi tifus) nazivaju se </a:t>
            </a:r>
            <a:r>
              <a:rPr b="1" lang="en-US" sz="32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obligatnim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vektorskim bolesti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2571840" cy="168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81480" y="0"/>
            <a:ext cx="2286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loga vektora u preno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4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ju zaraznih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že biti: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biološk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mehanič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) 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Biolo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š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ka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uloga vektora je mnogo komplikovanija. Ona podrazumeva da </a:t>
            </a:r>
            <a:r>
              <a:rPr b="0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se uzro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nik neko vreme zadr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ava u organizmu vektora, da u njemu sazreva ili da se razmno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ava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, a mehanizam zar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nj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a (ili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inje) m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biti dvoj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inokulacijim</a:t>
            </a:r>
            <a:r>
              <a:rPr b="0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: prilikom uboda, kroz rilicu vektora izaziv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 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bolesti se inokulira u makroorganizam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kontaminacijom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: vektor sekretuje ili ekskretuje uz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 (fecesom) na k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a, a uz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 u organizam prodire kroz 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ja na k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(na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ešće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nastala nakon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ešenja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b) </a:t>
            </a:r>
            <a:r>
              <a:rPr b="1" lang="en-US" sz="24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Mehani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č</a:t>
            </a:r>
            <a:r>
              <a:rPr b="1" lang="en-US" sz="24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ka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, kada vektor meha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i (na krilima, n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cama, telu) prenosi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e sa obolele na zdravu osobu ili zagadjuje razl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te predmete ili hranu. Tako, na primer,  ob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a </a:t>
            </a:r>
            <a:r>
              <a:rPr b="1" lang="en-US" sz="24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doma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ć</a:t>
            </a:r>
            <a:r>
              <a:rPr b="1" lang="en-US" sz="24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a muva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(M</a:t>
            </a:r>
            <a:r>
              <a:rPr b="0" i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sca domestica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) na svome telu m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da prenese razl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te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e crevnih zaraznih bolesti, da zagadi hranu koja, kasnije, postaje put pren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ja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 (ovde se radi o kombinaciji dva razl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ta puta pren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ja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). 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Š</a:t>
            </a:r>
            <a:r>
              <a:rPr b="1" lang="en-US" sz="24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talska muva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(S</a:t>
            </a:r>
            <a:r>
              <a:rPr b="0" i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omoxis calcitrans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) na sl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n 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 m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da prenese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 antraksa, ali direktno na k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osetljive osobe. Na ovaj 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  u tropima </a:t>
            </a:r>
            <a:r>
              <a:rPr b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badi 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abanidae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) prenose s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inje n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inju neke bolesti izazvane tripanozoma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ako se vidi, ovde se ne radi o pravim transmisivnim bolestima (jer je uloga vektor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sto meha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a), tj vektor kontaktom prenosi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 sa obolele na zdravu osob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od vektorskih (transmisivnih) bolesti </a:t>
            </a:r>
            <a:r>
              <a:rPr b="0" lang="en-US" sz="32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ulazno mesto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infekcije je nez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a </a:t>
            </a:r>
            <a:r>
              <a:rPr b="0" lang="en-US" sz="32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ko</a:t>
            </a:r>
            <a:r>
              <a:rPr b="0" lang="sr-Latn-CS" sz="3200" spc="-1" strike="noStrike">
                <a:solidFill>
                  <a:srgbClr val="ff33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(delovi k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dostupni ubodima zglavkara), a kod </a:t>
            </a:r>
            <a:r>
              <a:rPr b="0" lang="en-US" sz="32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fakultativnih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transmisivnih bolesti to m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biti i </a:t>
            </a:r>
            <a:r>
              <a:rPr b="0" lang="en-US" sz="32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sluzoko</a:t>
            </a:r>
            <a:r>
              <a:rPr b="0" lang="sr-Latn-CS" sz="3200" spc="-1" strike="noStrike">
                <a:solidFill>
                  <a:srgbClr val="ff33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respiratornog (kuga) ili digestivnog trakta (Q groznica, tularemij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Glavni i sporedni domać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od mikroorganizama koji u svom razvoju imaju polnu i bespolnu fazu, a parazitiraju i 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u i u vektoru, </a:t>
            </a:r>
            <a:r>
              <a:rPr b="1" lang="en-US" sz="28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glavni doma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ć</a:t>
            </a:r>
            <a:r>
              <a:rPr b="1" lang="en-US" sz="28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in je onaj u kome parazit dosti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ž</a:t>
            </a:r>
            <a:r>
              <a:rPr b="1" lang="en-US" sz="28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e svoju polnu zrelo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sl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u malarije, komarac je glavni do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 (polna faza razvoja se odigrava u komarcu), a sporedni j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sl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u filarijaze situacija je obrnuta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 je glavni, a komarac sporedni do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Rezervoari agen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Vektor se zarazi s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krv neke </a:t>
            </a:r>
            <a:r>
              <a:rPr b="0" lang="en-US" sz="28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krupnije 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ivotinje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(koja predstavlja stalni rezervoar uzr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) ili 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ovek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(npr. kod malarije ili pegavog tifusa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Medjutim, i </a:t>
            </a:r>
            <a:r>
              <a:rPr b="0" lang="en-US" sz="28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sami vektori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mogu biti rezervoari uzr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, kada se uzr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 u vektoru prenosi transovarijalno i na njegovo potomstvo, kao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o je to sl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 kod nekih krpelja i grin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3414600" cy="2435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Biocenoza i prirodna žar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23623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prirodnim uslovima sitni glodari predstavljaju rezervoar mnogih uz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 transmisivnih bolesti. Na njima parazitira veliki broj artropoda hran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se njihovom krvlju, koje prelaz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na drug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inje ubodom ili kontaminacijom zar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ju i njih. Na taj n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, 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povezani razli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č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itim lancima ishrane</a:t>
            </a:r>
            <a:r>
              <a:rPr b="0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 opstaju i 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ive mnoge 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ivotinjske vrste (tzv. 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biocenoze</a:t>
            </a:r>
            <a:r>
              <a:rPr b="0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i od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ju se uz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ci transmisivnih zaraza u svojim 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prirodnim 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ari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š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tima</a:t>
            </a:r>
            <a:r>
              <a:rPr b="0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” (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geografski delovi prostora u kojima se stalno odr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va neka transmisivna zaraza</a:t>
            </a:r>
            <a:r>
              <a:rPr b="0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).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 se na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ešće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zarazi borav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u prirodnim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ima, sl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no, jer postaje deo lanca ishrane, tj. sl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no stupa u biocenozu koju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e uz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, vektor i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in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Mesta, 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ivotni prostori u kojima se odr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avaju prirodna 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ari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š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ta</a:t>
            </a:r>
            <a:r>
              <a:rPr b="0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 nazivaju se </a:t>
            </a:r>
            <a:r>
              <a:rPr b="1" lang="en-US" sz="2000" spc="-1" strike="noStrike">
                <a:solidFill>
                  <a:srgbClr val="ff3300"/>
                </a:solidFill>
                <a:latin typeface="Times Roman YU"/>
                <a:ea typeface="Times New Roman"/>
              </a:rPr>
              <a:t>biotopi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i to su, uglavnom, v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 geografska podr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ja u jednoj d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i ili cela d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. Manja mesta (rupe, jazbine, p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e) u kojim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e sitni glodari (rezervoari zaraze) nazivaju se “elementarn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06:50:18Z</dcterms:created>
  <dc:creator>IZJZ</dc:creator>
  <dc:description/>
  <dc:language>en-US</dc:language>
  <cp:lastModifiedBy>uriniprijemno</cp:lastModifiedBy>
  <dcterms:modified xsi:type="dcterms:W3CDTF">2014-04-09T10:22:14Z</dcterms:modified>
  <cp:revision>6</cp:revision>
  <dc:subject/>
  <dc:title>Epidemiologija transmisivnbih bolesti</dc:title>
</cp:coreProperties>
</file>