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F6D-075F-422A-A960-87872518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CAF-B6FC-458E-A6EB-9465FA6E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AA4-D9CE-45B5-88FF-E749E637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CDA-86F2-463E-A5CA-78976C0A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1FB-826F-410A-9BBA-A00ADE47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53C-73CE-41AD-876A-1217B574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7C4-22FB-4C9E-950B-AAD15AA1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9BA-21CC-45FF-AB30-F2C56B6B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7E8-900A-4BED-B8E9-4E373472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52D-D7D2-4837-83AE-1AA1EE41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765-E689-413C-BF63-F896CAA8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4D2-0847-4C58-A12A-06F5BE57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38AD-5765-4CA3-9F3A-11053BE5E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GA (PESTI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utna infektivna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akultativno transmisiv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rantinska bolest praćena visokim letalitetom. Nekada se javljala u vidu epidemija i pandemija, a danas je endemična u određenim područjima, sa pojavom sporadičnih slučajev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31920" y="380880"/>
            <a:ext cx="234936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IJA. Uzročnik kuge j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ersinia (Pasteurella) pest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tporan je prema sušenju i dezinfekcionim sredstvima. U sputumu bolesnika održava se do 10 dana, u leševima do 30 dana; u vodi i životnim namirnicama može da opstane do 4 meseca. U organizmu buve uzročnik kuge može da ostane živ preko jedne god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R ZARAZE. Glavni izvor i rezervoari infekcije su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ivlji gloda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ročito pacovi i miševi, sa kojih se infekcija prenosi na domaće pacove i miševe. Najčešći izvori zaraze za čoveka su pacovi Rattus rattus i Rattus norvegicus.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od plućnog oblika kuge izvor zaraze je bolestan čov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akle, bolestan čovek i inficirani glodar, kao i inficirana buva dokazani su nosioci uzročnika ku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EVI PRENOŠENJA. Prenosioci uzročnika kuge su buve, među kojima najčešć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acovske bu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Xenopsylla cheopis, Ceratophylus fasciatus i dr.) dok je od manjeg značaja čovečja buva (Pulex irritans). Kod plućne kuge uzročnik se prenosi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spirato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j. vazdušno - kapljičnim pu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AZNA VRATA. Kod bubonske kuge -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ož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kod plućne -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lveole plu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ETUIVOST.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pšta i vrlo visok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pada u bolesti sa apsolutnom dispozicijo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PORNOST. Preležana boles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e ostavlja solidan niti trajan imunit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to može doći do ponovnog obolevanja istih ljud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. Različita je kod bubonske i plućne kuge. K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ubonskog oblika kreće se od 2 - 6 da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kod plućnog je kraća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ekoliko sati do 3 -4 da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 Kuga se klinički manifestuje u dva osnovna oblika: bubonska i plućna kuga. Kao posledica bilo kog od ovih, može da nastane septična kuga (kužna sepsa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bonsk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žlezdana) kuga je najčešći klinički oblik. Bolest počinje naglo. Pored opštih simptoma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emperatura, jeza, drhtavica, malaksal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vlja s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tok limfnih žlez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bično preponskih (s obzirom da buve najčešće napadaju noge). Otok je crven, a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žlezde su tvrde i bol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"bubo dolens"). To su tzv. primarni buboni. Kasnije se otok javlja na aksilarnim i cervikalnim žlezdama. Kod lakših slučajeva bolesti - pestis minor ­otoci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žlezda se povlač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bolest se na ovome završava. Međutim, žlezd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često zagno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lceriraju i iz njih se cedi gnojav, sukrvičav sekret. Kod nelečenih slučajeva bubonske kuge letalitet iznosi 25 - 50% i viš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ćn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ga može biti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rimarna i sekunda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imarni oblik nastaje kod respiratorne infekcije, a sekundarni je posledica diseminacije bubonske kuge. Pored opštih simptoma, plućnu kugu karakterišu: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olan kašalj, hemoragični ispljuv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ekada je boje rde i gust kao kog lobarne pneumonije),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janoz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"crna smrt"),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oksične pojave i sm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snovni simptomi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užn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epse su: jaka klonulost, visoka temperatura, krvarenje iz nosa, prolivi i komatozno sta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od primarne plućne, kao i kod septičnog oblika kuge, letalitet je 100%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712800"/>
            <a:ext cx="3124080" cy="220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9880" y="990720"/>
            <a:ext cx="2514600" cy="1722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Medieval disease: The bubonic plague kills cells which cause gangrene. Mr Gaylord's fingers and toes went black and will have to be removed"/>
          <p:cNvPicPr/>
          <p:nvPr/>
        </p:nvPicPr>
        <p:blipFill>
          <a:blip r:embed="rId3"/>
          <a:stretch/>
        </p:blipFill>
        <p:spPr>
          <a:xfrm>
            <a:off x="380880" y="3660840"/>
            <a:ext cx="2819520" cy="200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Terrible symptoms: The tell-tale signs of the disease gave it its name, the Black Death"/>
          <p:cNvPicPr/>
          <p:nvPr/>
        </p:nvPicPr>
        <p:blipFill>
          <a:blip r:embed="rId4"/>
          <a:stretch/>
        </p:blipFill>
        <p:spPr>
          <a:xfrm>
            <a:off x="3962520" y="3200400"/>
            <a:ext cx="4457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JSKA DIJAGNOSTIKA Postavlja se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akteriološkim nalazom bacila kuge u punktatu bubona, gnoj u, krvi· i sputum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od plućne kuge). Mikroskopski nalaz uz kliničke i epidemiološke podatke dovoljan je za dijagnozu ku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ŠIRENOST. Endemska žarišta kuge poznata su u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ziji, Africi i Južnoj Ameri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ŠKI OBLICI. Kuga se javlja u obliku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poradičnih slučajev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u obliku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pidemij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poradičnost je uslovljena ulaskom pojedinaca u prirodna žarišta kuge ili importovanjem iz velikih daljina u sredinu sa visokim stepenom higijenske kulture. Epidemije nastaju obično u vezi sa epizootijama među glodarima, odnosno pacovi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ZONA U umerenom klimatskom pojasu epidemije bubonske kuge najčešće su u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tnjim mesecima, a u toplim krajevima zi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AKSA U mere profilakse spadaju: kontrola brodova iz zaraženih područja i njihova dezinsekcija i deratizacija; dezinsekci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ratizacija velikih luka, dokova, magacina i drugih zgrada u pristaništima; vakcinacija ugroženih osoba; aktivni nadzor nad endemičnim i potencijalno endemičnim područjima u cilju praćenja gustine populacije pacova i pacovskih buva, ali i neprekidni nadzor i nad ostalim, naročito divljim glodarima i njihovim ektoparazitima u područjima silvatične kuge; zdravstveno - vaspitni r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ZBIJANJE. U slučaju pojave kuge obavezno se preduzimaju sledeće protivepidemijske mer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rijavljivanje oboljenj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smrti, ali i sumnje da postoji oboljenje, odmah po saznanju, najbržim putem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troga izolacija u zdravstvenim ustanovama za lečenje zaraznih bolest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ospitalizacija) obolelih, sumnjivih i osoblja koje ih leči ineguj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revoz bolesn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mo sanitetskim prevoznim sredstvim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ekuća dezinfekcija svih lučevina bolesn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putum, feces, urin, znoj i dr.) i svih predmeta sa kojima bolesnik dolazi u dodi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avršna dezinfekcij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vih prostorija, predmeta iz okoline bolesnika, rublja i posteljin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aboratorijsko ispitivanj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zročnika radi utvrđivanja dijagnoze kako u slučaju pojave, tako i pri sumnji na oboljenj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zinsekcij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ublja, odeće i posteljine bolesnika, prostorija u stanu obolelog, u susednim kućama i u stanovima osoba koje su kontaktirale sa bolesnikom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ratizacij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naselju i okolini naselja u kome se pojavilo oboljenj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arantin u trajanju od 6 da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sva lica sa kojima je bolesnik dolazio u kontakt 2 - 3 dana pre početka ili tokom boles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pidemiološko ispitivanj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cilju ranog otkrivanja izvora zaraz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ntibiotska profilaks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vih osoba iz kontakta sa bolesnikom (naročito onim od plućne kuge) u trajanju 6 dan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ična zaštita osoblja koje neguje bolesnik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zaštitna odeća i obuća, maske, rukavice, obavezna vakcinacija, antibiotska profilaksa i dr.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akcinacija stanovništv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zaraženom naselju pri epidemijskoj pojav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5:29:16Z</dcterms:created>
  <dc:creator>IZJZ</dc:creator>
  <dc:description/>
  <dc:language>en-US</dc:language>
  <cp:lastModifiedBy>uriniprijemno</cp:lastModifiedBy>
  <dcterms:modified xsi:type="dcterms:W3CDTF">2014-04-09T12:03:16Z</dcterms:modified>
  <cp:revision>4</cp:revision>
  <dc:subject/>
  <dc:title>KUGA (PESTIS) </dc:title>
</cp:coreProperties>
</file>