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B53E-8672-4074-9FFF-97AF31F7F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9110-574F-439C-9AA5-D12E35E4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AB16-3097-4BE6-90E8-25615200B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C7FA-AED6-4C3C-9DEB-0ED7DAA5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FFCF-513A-4515-9BAF-7343E047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0705-D38B-45C0-8D01-9ABD7B5A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3564-ACEC-4C54-BF0B-B8DA4199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E1C8-8AB0-416B-AAE4-1F0C6407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A24A-10B8-4F9C-9801-271DDA1B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7AB5-1DBD-457D-BF74-3DE32976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CBBE-4CC3-4B32-B75A-D69298DA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654D-7447-45F3-8E11-0F2372AE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4E2B-A9E1-4FDF-9FE0-1225B1FD4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ULAREMUA (TULAREMlA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3886200"/>
            <a:ext cx="83055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ularemija je akutna febrilna fakultativno transmisivna zooantroponoza koju karakteriše tipično oboljenje žlezda i veliki broj puteva prenošenja uzročnik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5345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TIOLOGIJA. Prouzrokovač j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FrancisseIla tularensi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 Dosta je otporan u spoljnoj sredini. U vodi se može da održi od 4 do 9 meseci, na koži uginulih glodara mesec i više dana, a u artropodama i nekoliko godina. OsetIjiv je prema dezinficijensima. Uzročnik sadrži dva antigena: somatični - O i kapsularni - Vi - antig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ZVOR ZARAZE. Veliki broj divljih i domaćih životinja, a pre svega glodari: začevi, tekunice, dabrovi, divlji i domaći pacovi, veverice, miševi i dr. Kod ljudi i životinja još nije dokazano trajno nosi</a:t>
            </a:r>
            <a:r>
              <a:rPr b="1" lang="sr-Latn-CS" sz="28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štvo uzročnika. Trajno nosilaštvo F.tularensis je dokazano kod krpelja; uzročnik se prenosi transovarijalnim putem sa generacije na generacij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UTEVI PRENOŠENJA. Brojni su putevi prenošenja uzročnika: artropode, kontakt, hrana, voda i vazduh. Uzročnik se ne prenosi direktno sa čoveka na čovek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LAZNA VRATA. Koža</a:t>
            </a:r>
            <a:r>
              <a:rPr b="1" lang="sr-Latn-C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 sluzokoža digestivnog, respiratornog trakta</a:t>
            </a:r>
            <a:r>
              <a:rPr b="1" lang="sr-Latn-C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 ok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SETLJIVOST. Opšta. Ekspozicija igra važnu ulog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TPORNOST. PreIežana bolest ostavlja solidan i dugotrajan imunite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KUBACIJA. Iznosi 1 do 10, prosečno 3 dan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LINIČKA SLIKA. Bolest počinje naglo sa glavoboljom, zimom, groznicom i visokom temperaturom, a sve to baca bolesnika u krevet. Dan-dva posle početka bolesti na ulaznom mestu uzročnika na koži javlja se papula koja brzo prelazi u egzulcerirajuću pustulu i ulkus iz koga izlazi bezbojan eksudat. Može biti više ovakvih lezija. Istovremeno dolazi do otoka regionalnih limfnih žlezda. Obično petog dana bolesti javljaju se tifozno stanje i znaci atipične pneumonije. Na osnovu patoloških, kliničkih i epidemioloških karakteristika postoji 7 oblika tularemije: glandularni, ulcero-glandularni, okulo-bulbarni, anginozno-glandularni, abdominalni, plućni i generaliwvani obli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BORATORIJSKA DIJAGNOSTIKA. Vrši se i</a:t>
            </a:r>
            <a:r>
              <a:rPr b="1" lang="sr-Latn-CS" sz="2400" spc="-1" strike="noStrike">
                <a:solidFill>
                  <a:srgbClr val="3333cc"/>
                </a:solidFill>
                <a:latin typeface="Times New Roman"/>
              </a:rPr>
              <a:t>zo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cija uzročnik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d seroloških reakcija upotrebljava se reakcija aglutinacije. Ova reakcija postaje pozitivna tek krajem druge nedelje bolesti, a održava se više godina.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lergijska intrakutana prob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koja se vrši antigenom tularin, je specifična metoda za dijagnostiku bolesti i postaje pozitivna već trećeg do petog dana bolesti, a ostaje pozitivna više meseci ili više godina. Ove dve poslednje metode služe i za retrogradno utvrđivanje oboljenja ljudi i za pronalaženje ranijih žariš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AŠIRENOST. Tularemija je bolest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everne zemljine polulop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gistruje se u Aziji, Severnoj Americi i Evropi. Humani slučajevi tularemije registruju se u Jugoslaviji od 1946. godi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PIDEMIOLOŠKI OBLICI. Javlja se u obliku sporadičnih slučajeva i u obliku manjih, najčešće kućnih epidemij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ZONA Sezonska pojava je vezana za aktivnost artropoda, određene se</a:t>
            </a:r>
            <a:r>
              <a:rPr b="1" lang="sr-Latn-CS" sz="2000" spc="-1" strike="noStrike">
                <a:solidFill>
                  <a:srgbClr val="3333cc"/>
                </a:solidFill>
                <a:latin typeface="Times New Roman"/>
              </a:rPr>
              <a:t>zo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ske radove, zanimanja i se</a:t>
            </a:r>
            <a:r>
              <a:rPr b="1" lang="sr-Latn-CS" sz="2000" spc="-1" strike="noStrike">
                <a:solidFill>
                  <a:srgbClr val="3333cc"/>
                </a:solidFill>
                <a:latin typeface="Times New Roman"/>
              </a:rPr>
              <a:t>zo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sku aktivnost glodara, ali se bolest javlja tokom cele godi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OFILAKSA U mnogim zemljama sveta profilaktičke mere se sprovode samo po epidemiološkim indikacijama. Najradikalnija mera u borbi protiv tularemije bila bi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ikvidacija prirodnih žarišta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 Međutim, uspešno izvođenje ove mere je vrlo teško. U profilaksi tularemije u današnje vreme veoma važno mesto zauzima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vakcinoprofilaksa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 Upotrebljava se živa vakcina. Aplicirase u skarificiranu kožu ramena. Vakcinalni imunitet traje 5 godin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UZBIJANJE. U slučaju pojave oboljenja obavezno se sprovode sledeće mere: prijavljivanje oboljenja-smrti; i</a:t>
            </a:r>
            <a:r>
              <a:rPr b="1" lang="sr-Latn-CS" sz="2000" spc="-1" strike="noStrike">
                <a:solidFill>
                  <a:srgbClr val="3333cc"/>
                </a:solidFill>
                <a:latin typeface="Times New Roman"/>
              </a:rPr>
              <a:t>zo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cija i to hospitalizacija bolesnika; obavezno laboratorijsko ispitivanje; dezinfekcija njegovih lučevina iz ulceracija, limfnih žlezda, očiju i sputuma; sprovođenje epidemiološkog ispitivanja u cilju iznalaženja izvora zaraze; deratizacija, deakarizacija i dezinsekcija. Vakcinacija ugroženih osoba živom vakcinom. Masovna hemioprofilaksa u slučaju većih epidemija. U krajevima gde se pojavi tularemija zabranjuje se lov na zečev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05:39:47Z</dcterms:created>
  <dc:creator>IZJZ</dc:creator>
  <dc:description/>
  <dc:language>en-US</dc:language>
  <cp:lastModifiedBy>uriniprijemno</cp:lastModifiedBy>
  <dcterms:modified xsi:type="dcterms:W3CDTF">2013-04-09T06:44:03Z</dcterms:modified>
  <cp:revision>4</cp:revision>
  <dc:subject/>
  <dc:title>TULAREMUA (TULAREMlA) </dc:title>
</cp:coreProperties>
</file>