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079CE-CF00-4358-AAE0-E09965749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2AAB8-502C-4814-BBAA-0A85DD8E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AF4C4-F07F-41CB-96DD-FEE215637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9C23B-F912-4D8D-B2A7-C5748B7C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4259-4B70-4467-92F2-9C06908F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0B04D-1076-4F18-8867-84D31264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F33C-1FF7-4328-9A5B-F67F6B20D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15256-7F4C-404E-A454-1B288447A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39A9A-BF52-4130-84FB-5A4F03089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67FF-D2BA-4618-A76E-F52F03B4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8E1D-C90F-4BBB-B42A-06F9873B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3252-5ED0-4675-A2F2-84814F047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2A77-5FC9-4C8B-9A72-184E6664E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Times New Roman"/>
              </a:rPr>
              <a:t>TETANUS (TETANU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33520" y="3886200"/>
            <a:ext cx="815328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Akutno infektivno nekontagiozno oboljenje, koje se karakteriše tonično-kIoničnim grčevima, teškim tokom bolesti i visokim letaIitetom. </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914400" y="304920"/>
            <a:ext cx="3257640" cy="211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ETIOLOGUA Clostridium tetani, anaeroban, sporogeni baciI. Spore su veoma otpome u spoljnoj sredini, tako da se u zemljištu mogu održati godinama. Inače, baciI živi kao saprofit u digestivnom traktu životinja, a</a:t>
            </a:r>
            <a:r>
              <a:rPr b="1" lang="sr-Latn-CS" sz="2400" spc="-1" strike="noStrike">
                <a:solidFill>
                  <a:srgbClr val="ff3300"/>
                </a:solidFill>
                <a:latin typeface="Times New Roman"/>
              </a:rPr>
              <a:t> </a:t>
            </a:r>
            <a:r>
              <a:rPr b="1" lang="en-US" sz="2400" spc="-1" strike="noStrike">
                <a:solidFill>
                  <a:srgbClr val="ff3300"/>
                </a:solidFill>
                <a:latin typeface="Times New Roman"/>
                <a:ea typeface="Times New Roman"/>
              </a:rPr>
              <a:t>nekada i ljudi. Luči veoma jak toksin. </a:t>
            </a:r>
            <a:endParaRPr b="0" lang="en-US" sz="2400" spc="-1" strike="noStrike">
              <a:solidFill>
                <a:srgbClr val="000000"/>
              </a:solidFill>
              <a:latin typeface="Times New Roman"/>
            </a:endParaRPr>
          </a:p>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IZVOR ZARAZE. Životinje, naročito biIjožderi (konji, magarci, goveda), koje se inficiraju pasući travu na kojoj ima spora. Iz svog organizma izvori zaraze izlučuju uzročnike tetanusa sa stolicom. Sporama tetanusa naročito je bogata obradiva zemlja koja se dubri stajskim dubrivom. </a:t>
            </a:r>
            <a:endParaRPr b="0" lang="en-US" sz="2400" spc="-1" strike="noStrike">
              <a:solidFill>
                <a:srgbClr val="000000"/>
              </a:solidFill>
              <a:latin typeface="Times New Roman"/>
            </a:endParaRPr>
          </a:p>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PUTEVI PRENOŠENJA Zemljište. Spore tetanusa se unose pri ozleđivanju, kada u ranu dospeju zemlja, ulična prašina ili feces u kojima su prisutne spor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ULAZNA VRATA Povredena koža i sluzokoža. Povreda mora biti takva da omogućava anaerobne uslove (ubodne, duboke rane, zgnječeno tkivo, velike razderotin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OSETUIVOST. Opšta. </a:t>
            </a:r>
            <a:endParaRPr b="0" lang="en-US" sz="2800" spc="-1" strike="noStrike">
              <a:solidFill>
                <a:srgbClr val="000000"/>
              </a:solidFill>
              <a:latin typeface="Times New Roman"/>
            </a:endParaRPr>
          </a:p>
          <a:p>
            <a:pPr marL="343080" indent="-343080" algn="just">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OTPORNOST. Posle preIežanog tetanusa nema imuniteta i ponovne infekcije su moguće. Međutim, vakcinalni imunitet je vrlo solidan i dugotrajan.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INKUBACUA Najčešće 6-14 dana, ali ponekad može biti i kraća, ai mnogo duža (mesecim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KLINIČKA SLIKA Prvi objektivni simptom bolesti je </a:t>
            </a:r>
            <a:r>
              <a:rPr b="1" lang="en-US" sz="2800" spc="-1" strike="noStrike">
                <a:solidFill>
                  <a:srgbClr val="000000"/>
                </a:solidFill>
                <a:latin typeface="Times New Roman"/>
                <a:ea typeface="Times New Roman"/>
              </a:rPr>
              <a:t>trizmus</a:t>
            </a:r>
            <a:r>
              <a:rPr b="1" lang="en-US" sz="2800" spc="-1" strike="noStrike">
                <a:solidFill>
                  <a:srgbClr val="ff3300"/>
                </a:solidFill>
                <a:latin typeface="Times New Roman"/>
                <a:ea typeface="Times New Roman"/>
              </a:rPr>
              <a:t>, a zatim se javljaju </a:t>
            </a:r>
            <a:r>
              <a:rPr b="1" lang="en-US" sz="2800" spc="-1" strike="noStrike">
                <a:solidFill>
                  <a:srgbClr val="000000"/>
                </a:solidFill>
                <a:latin typeface="Times New Roman"/>
                <a:ea typeface="Times New Roman"/>
              </a:rPr>
              <a:t>klonično-tonični grčevi po celom telu</a:t>
            </a:r>
            <a:r>
              <a:rPr b="1" lang="en-US" sz="2800" spc="-1" strike="noStrike">
                <a:solidFill>
                  <a:srgbClr val="ff3300"/>
                </a:solidFill>
                <a:latin typeface="Times New Roman"/>
                <a:ea typeface="Times New Roman"/>
              </a:rPr>
              <a:t>. Temperatura je povišena, a svest očuvana. U napadu grčeva često dolazi do smrti bolesnika. Tetanus novorođenčadi, koji nastaje zbog nesterilnog manipulisanja pri presecanju pupčanika, ima slične simptome i novorođenče umire sa znacima rigidne konvulzije. </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LABORATORIJSKA DIJAGNOSTIKA. Mada je moguća izolacija Cl.tetani iz rane obolelog, </a:t>
            </a:r>
            <a:r>
              <a:rPr b="1" lang="en-US" sz="2800" spc="-1" strike="noStrike">
                <a:solidFill>
                  <a:srgbClr val="000000"/>
                </a:solidFill>
                <a:latin typeface="Times New Roman"/>
                <a:ea typeface="Times New Roman"/>
              </a:rPr>
              <a:t>mikrobiološka dijagnostika se obično ne vrši</a:t>
            </a:r>
            <a:r>
              <a:rPr b="1" lang="en-US" sz="2800" spc="-1" strike="noStrike">
                <a:solidFill>
                  <a:srgbClr val="ff3300"/>
                </a:solidFill>
                <a:latin typeface="Times New Roman"/>
                <a:ea typeface="Times New Roman"/>
              </a:rPr>
              <a:t>, zbog jasne kliničke slike. Za ranu i brzu dijagnozu može se, ipak,vršiti dokazivanje toksina u serumu bolesnika.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RAŠIRENOST. Kosmopolitsko oboljenje koje se javlja u svim krajevima sveta, a naročito onim u kojima je razvijeno stočarstvo. </a:t>
            </a:r>
            <a:endParaRPr b="0" lang="en-US" sz="1800" spc="-1" strike="noStrike">
              <a:solidFill>
                <a:srgbClr val="000000"/>
              </a:solidFill>
              <a:latin typeface="Times New Roman"/>
            </a:endParaRPr>
          </a:p>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EPIDEMIOLOŠKI OBLICI. Tetanus se pretežno javlja sporadično.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ojava većeg broja slučajeva moguća je samo u slučajevima masovnog ranjavanja (zemljotres, veće saobraćajne nesreće, ratovi) i to kod nevakcinisanih osoba. Poseban problem u zaostalim sredinama predstavlja tetanus novorođenčadi, kod koga letalitet iznosi gotovo 100%. </a:t>
            </a:r>
            <a:endParaRPr b="0" lang="en-US" sz="1800" spc="-1" strike="noStrike">
              <a:solidFill>
                <a:srgbClr val="000000"/>
              </a:solidFill>
              <a:latin typeface="Times New Roman"/>
            </a:endParaRPr>
          </a:p>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EZONA. U krajevima sa umerenom klimom tetanus je češći u leto i jesen, a u tropskim i subtropskim predelima javlja se tokom čitave godine.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ROFILAKSA. Osnovna mera u prevenciji tetanusa je </a:t>
            </a:r>
            <a:r>
              <a:rPr b="1" lang="en-US" sz="1800" spc="-1" strike="noStrike">
                <a:solidFill>
                  <a:srgbClr val="000000"/>
                </a:solidFill>
                <a:latin typeface="Times New Roman"/>
                <a:ea typeface="Times New Roman"/>
              </a:rPr>
              <a:t>imunizacija</a:t>
            </a:r>
            <a:r>
              <a:rPr b="1" lang="en-US" sz="1800" spc="-1" strike="noStrike">
                <a:solidFill>
                  <a:srgbClr val="ff3300"/>
                </a:solidFill>
                <a:latin typeface="Times New Roman"/>
                <a:ea typeface="Times New Roman"/>
              </a:rPr>
              <a:t>, a kada dođe do povrede i što hitnija primarna obrada rane. Za profilaksu tetanusa koriste se antitetanusni imunoglobulin ili antitetanusni serum (animalnog porekla) i vakcina. Vakcinacija protiv tetanusa u našoj zemlji spada u red obaveznih sistematskih vakcinacija za sva lica uzrasta do navršenih 18 godina, a za sva ostala lica prema epidemiološkim indikacijama ( u slučaju ozleđivanja).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UZBIJANJE. Obavezna je prijava oboljenja-smrti od tetanusa i hospitalizacija, koja se sprovodi ne zbog epidemioloških, već zbog vitalnih indikacij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5:36:02Z</dcterms:created>
  <dc:creator>IZJZ</dc:creator>
  <dc:description/>
  <dc:language>en-US</dc:language>
  <cp:lastModifiedBy>uriniprijemno</cp:lastModifiedBy>
  <dcterms:modified xsi:type="dcterms:W3CDTF">2013-04-09T06:51:46Z</dcterms:modified>
  <cp:revision>3</cp:revision>
  <dc:subject/>
  <dc:title>TETANUS (TETANUS) </dc:title>
</cp:coreProperties>
</file>