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4C7-DDC3-483A-91F5-45DE480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F7A-E8D4-4AF5-A05F-54D7148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189-A0EE-490F-9F96-9C168F11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29C-3A46-4567-AF81-6F458006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B8A-6378-47E2-A2B8-0791BEF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FB8-FB02-49E6-AAE9-8C581E17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732-3BA5-48C0-B9DA-3CB0730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8C2-E177-47E5-96A4-19A4FEA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8E9-1D9D-4ED0-88B1-492F518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13A-D775-4DFF-8FCD-2F9869C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67E-8E77-4B0A-96CB-4B32386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1BE-1EBD-45E4-8461-1C5C9DD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55E-9470-41D4-883A-EEF75569B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EGAVAC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YPHUS EXANTHEMATICUS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asični ili epidemijski pegavac je akutna transmisivna rikecijalna infektivna (ranije karantinska) bolest i jedna od najpoznatijih ratnih zaraza u istoriji čovečanst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IOLOGIJA Uzročnik je Rickettsia prowazeki. Neotporna je u spoljnoj sredini. Lako je inaktivišu sva dezinfekciona sredstva. Na sobnoj temperaturi gine za nekoliko časova, a pod povoljnim uslovima u izmetu vaši ostaje u životu više meseci. Sa R.mooseri ima jedan zajednički grupni (solubilni-S) antig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ZVOR ZARAZE. Čovek oboleo od pegavca ili Bril-Zinser-ove bolesti. Rickettsia prowezeki se nalazi u krvi čoveka pri kraju inkubacije, za vreme febrilnog stadijuma i nekoliko dana po padu temperature. Po ozdravljenju u nekih osoba rikecije ostaju izgleda doživotno skrivene negde u retikuloendotelijalnom sistemu i iz njega izlaze u krvotok prilikom poremećaja imunobiološke ravnoteže. Tako nastaje recidiv pegav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TEVI PRENOŠENJA U prirodnim uslovima samo inficirana vaš ­-Pediculus humanus corpo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LAZNA VRATA Koža, a izuzetno sluzokoža respiratornih organa i konjuktive (laboratorijske infekcij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ETLJIVOST. Opšta za sve uzraste i za oba po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PORNOST. Preležana bolest ostavlja solidan, ali ne i doživotni imunitet. Moguće su reinfekcije u oko 5% slučaje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KUBACIJA Kreće se od 5 do 20 dana, a prosečna je 12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A SLIKA. Bolest prolazi kroz tri stadijuma. Prvi stadijum ili prodromalni karakteriše se opštim infektivnim simptomima, gripoznim sindromom, lice je zažareno (caput rubrum), temperatura iz dana u dan raste do 40°C. Ovaj stadij um traje 3 do 5 dana i neprimetno prelazi u drugi, egzantematični stadijum sa pojavom makulozne ospe prvo na pregibnim delovima. Ospa može da bude i petehijaina, pa posle nekoliko dana cela koža je izgleda mramora. Istovremeno dolazi do pojave tifoznog stanja, dezorijentacije u vremenu i prostoru sa halucinacijama. Ovaj stadijum traje 7 do 15 dana i jako iscrpljuje bolesnika. Stadij um rekonvalescencije se karakteriše poboljšanjem opšteg stanja i smirivanjem svih simptoma i traje 2 do 3 nedel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i tok bolesti može biti različite težine; bolest obično ima teži tok kod odraslih osoba nego kod dece. Mogu da se jave i komplikacije u vidu sekundarne gangrene, pneumonije, miokardita i d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BORATORUSKADUAGNOSTIKA Najčešće se koriste serološki testovi: klasični test j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il-Felixov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eakcija aglutinacije (orijentaciono), reakcija aglutinacije sa rikecijama, reakcija fiksacije komplementa sa rikecijalnim antigenom i test neutralizacije. Antitela se javljaju već krajem prve nedelje bolesti, u trećoj nedelji su najviša antitela za Weil-Felix-ovu reakciju, a za reakciju fiksacije komplementa anti tela su prisutna više desetina god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šIRENOST. Javlja se u hladnim i umerenim klimatskim područjima na zemaljskoj kugli. Nekada je bio rasprostranjen u mnogim zemljama Evrope, Azije, Afrike i Amerike. U toku zadnjih godina je iščezao iz mnogih zemalja sveta, a ostao samo tamo gde stanovništvo živi pod lošim uslovima i gde je još uvek prisutna velika vašljivost. U Jugoslaviji se pegavac 1971. godine zadnji put registruje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PIDEMIOLOŠKI OBLICI. U redovnim prilikama u endemskim zemljama pegavac se javlja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poradično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Rede se javlja u vidu manjih,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odački povezanih epidemija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U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anrednim prilikama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godine gladi, ratovi i sl.) pegavac kao izrazita bolest vezana za standard, odnosno pad lične higijene i poremećaj u ishrani stanovništva, naglo zahvata veliki broj osoba i ima veliki potencijal života. Za nastajanje epidemije pegavca potrebno je da vašljivost tela u populaciji bude veća od 5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ZONA Javlja se u toku cele godine sa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ipičnim povećanjem broja obolelih u toku zime i proleća u hladnim i umerenim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klimatskim područji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FILAKSA U profilaksi pegavca osnovne su četiri m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  lična profilaksa - lična higijen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podizanje zdravstvene kulture stanovništva naročito u zabačenim naseljim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  masovna primena insekticida, odnosno depedikulacij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  imunoprofilaksa - vakcinacija protiv pegav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va poslednja mera primenjuje se samo u vanrednim prilikama. Poznate su Weigl-ova, Castanedina, Coxova i Foxova vakcina. Najviše je u upotrebi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xova vakcina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ZBIJANJE. Od protivepidemijskih mera primenjuju se sledeće: - obavezna prijava i pri sumnji na oboljenje od pegavc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a izolacija i hospitalizacija obolelih i sumnjivi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a depedikulacija bolesnika, ukućana i okolin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epidemiološko ispitiva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o laboratorijska ispitiva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kontrola aktivnog žarišta sve do njegove potpune likvidacije;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kontrola likvidiranog žariš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3:34Z</dcterms:created>
  <dc:creator>IZJZ</dc:creator>
  <dc:description/>
  <dc:language>en-US</dc:language>
  <cp:lastModifiedBy>uriniprijemno</cp:lastModifiedBy>
  <dcterms:modified xsi:type="dcterms:W3CDTF">2013-04-09T06:41:19Z</dcterms:modified>
  <cp:revision>3</cp:revision>
  <dc:subject/>
  <dc:title>PEGAVAC  (TYPHUS EXANTHEMATICUS)  </dc:title>
</cp:coreProperties>
</file>