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C50-0575-4AE5-B5A9-5FEA9D89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786-6D3A-4A9F-9F7F-0316DF1A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F0D-316B-458F-9FEF-06CC19D0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2BB-DECD-4861-9925-45A5B38C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8CB-1FCE-4AA2-BB39-A47DD5D4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E90-E4BD-4997-BF2E-E766590C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18A-C970-47A0-AD9C-07B558D7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5CD-92BB-4AC9-896C-B360F2CB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644-0E1D-4050-80F0-EC47E9A5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AB5-3AD3-4383-8AC4-2FCFDBE6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91D-FFCF-4671-A216-5BB7EEA1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E98-5426-4F94-AD62-7D4035E4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0BAB-EAA9-4144-85F8-B1CD7D0C9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UTA GROZNIC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EBRIS FLAVA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5809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uta groznica je teška akutna transmisivna hemoragična virusna groznica čije uzročnike prenosi posebna vrsta komarca; bolest je ograničena na tropske predel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fri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Amerike i svrstana u grupu karantinskih bolest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IJA Prouzrokovač pripada B grupi ARBO virusa, porodici F1aviviridae, flavivirusima koje prenose komarci. Postoje dva soja, američki i afrički. Međutim, izgleda da su ova dva soja po svojim biološkim osobinama identična. Virus žute groznice ima pantropično dejstvo, a prvenstveno je neurotropan i viscerotrop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OR ZARAZE.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od gradskog tipa infekcije izvor je bolestan čovek, a kod šumskog tipa divlje životinje, najčešće majmu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Virus se nalazi u perifernoj krvi inficiranog čoveka poslednji dan inkubacije i još tri do četiri dana tokom boles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EVI PRENOŠENJA Prenosioci su ženke komaraca Aedes aegypti i drugi. Zarazu prenose ubodom. ženke postaju zarazne dve nedelje posle sisanja inficirane krvi. Jednom inficirana, ženka komarca ostaje zarazna celog života. Nije dokazano transovarijalno prenošenje viru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AZNA VRATA Kož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ETLJIVOST. Opš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PORNOST. Preležana bolest ostavlja solidan i trajan imunit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 Iznosi 3 - 6 dana, prosečno 4 dana. Za karantin se uzima maksimalna inkubacija od 6 da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. Bolest počinje naglo sa groznicom i visokom temperaturom koja se penje i do 4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glavoboljom i bolovima u krstima. Lakši oblici traju 3 - 4 dana. Temperatura opada, bolovi prestaju i bolesnik ozdravi. U težim slučajevima bolest ima bifazični tok. Posle prvog napada nastaje kratkotrajna afebrilna pauza od nekoliko sati do dva dana, koja deli bolest na dve faze. U prvoj fazi dominira viremija, a u drugoj toksemija koja oštećuje organe. Druga faza bolesti nastaje, dakle, posle afebrilne pauze i počinje ponovnim porastom temperature i pojavom krvarenja sluzokoža nosa, usta, pluća, creva i kože. Bolesnik povraća, a povraćane mase su crne boje zbog primesa krvi, otuda "vomito negro". Istovremeno se javlja i žutica kao posledica toksičnog delovanja virusa na tkivo jetre. Bifazni oblici bolesti su obično vrlo teški i imaju fatalan završetak desetog do dvanaestog dana bolesti. U dece je bolest blaža i smrtnost manja. U endemskim krajevima česte su inaparentne infekcij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JSKA DIJAGNOSTIKA. Od laboratorijskih metoda koriste se izolacija virusa, test neutralizacije, reakcija vezivanja komplementa i inhibicija hemaglutinacij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šIRENOST. Javlja se u tropskim i subtropskim predelima Afrike i Amerike čija granica doseže na severu 42° severne i na jugu 40° južne šir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ŠKI OBLICI. Gradski i prašumski oblik. Gradski oblik se javlja u naseljenim mestima u kojima komarac prenosi uzročnika sa čoveka na čoveka. Prašumski oblik se javlja u prašumama Srednje Amerike i Centralne Afrike u divljoj prirodi. Uzročnika prašumskog oblika prenose šumski komarci sa majmuna na majmuna, a čovek slučajno upada u taj lanac infekcije. U divljoj prirodi žuta groznica perzistira kao epizootija. I jedan i drugi oblik javljaju se po pravilu u obliku epidemi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ZONA. U tropskim predelima se javlja preko cele godine, a u ~ubtropima u toku le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LAKSA. Borba protiv komaraca Aedes-a; vakcinacija osoba koje odlaze ili se nalaze u endemskim žarištima ove bolesti; karantin za osobe koje dolaze iz endemskih žarišta, a nisu vakcinisane i karantin za divlje životinje koje se uvoze iz endemskih žarišta (majmuni i dr.). Karantin za nevakcinisane osobe iznosi 6 dana, a za majmune 8 da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ZBIJANJE. Obavezna prijava oboljenja - smrti najbržim putem (karantinska bolest); obavezna izolacija, laboratorijsko ispitivanje i hospitalizacija; nevakcinisane kontakte vakcinisati, a vakcinisane revakcinisati; epidemiološko ispitivanje i borba protiv komaraca vrste Ae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5:23:58Z</dcterms:created>
  <dc:creator>IZJZ</dc:creator>
  <dc:description/>
  <dc:language>en-US</dc:language>
  <cp:lastModifiedBy>uriniprijemno</cp:lastModifiedBy>
  <dcterms:modified xsi:type="dcterms:W3CDTF">2013-04-09T06:46:37Z</dcterms:modified>
  <cp:revision>2</cp:revision>
  <dc:subject/>
  <dc:title>ŽUTA GROZNICA  (FEBRIS FLAVA)  </dc:title>
</cp:coreProperties>
</file>