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A77-B9F4-4DF9-9222-D5A5AF4C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7AA-F164-4E89-9FFD-BCF2952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B71-DC71-434B-AA91-5C9FA354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425-4116-4AA8-8CAE-AF065F0E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94F-D5C0-42DE-A5E0-0CC59AC6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021-51B2-4A71-9C89-A29B29FB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5B8-A6BF-4F5C-9F5B-14D7559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A8B-4DC3-4A07-B2BD-BE9669D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7A5-3C97-49A4-A2DC-5C577BE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D56-F46C-4449-9CE3-0AA91880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37C-8E66-4EE1-BD6E-BDF8389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07D-69FB-4765-8F74-F286D134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9156-034B-41E2-930E-C02E50E7F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66ff"/>
                </a:solidFill>
                <a:latin typeface="Times New Roman"/>
              </a:rPr>
              <a:t>TRIHINELOZ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ff"/>
                </a:solidFill>
                <a:latin typeface="Times New Roman"/>
              </a:rPr>
              <a:t>Prof. Dr Branislav Petr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ff"/>
                </a:solidFill>
                <a:latin typeface="Times New Roman"/>
              </a:rPr>
              <a:t>Rašire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asirenost%20trichinella" descr=""/>
          <p:cNvPicPr/>
          <p:nvPr/>
        </p:nvPicPr>
        <p:blipFill>
          <a:blip r:embed="rId2"/>
          <a:stretch/>
        </p:blipFill>
        <p:spPr>
          <a:xfrm>
            <a:off x="1219320" y="2075040"/>
            <a:ext cx="6781680" cy="478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ff"/>
                </a:solidFill>
                <a:latin typeface="Times New Roman"/>
              </a:rPr>
              <a:t>Epidemiološki obl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Sporadič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Manje ili veće epidemije – obolevaju ljudi koji su jeli sto, nedovoljno termički obradjenjo m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Profilak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Veterinarska kontrola svinjskog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Termička obrad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Zamrzavanje mesa ispod 20 stepeni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Derat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Suzbijan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Prijavlj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Obaveštavanje veterinarske slu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Epidemiološko 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Laboratorijsko 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Derat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Hospitalizacija obolel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ff"/>
                </a:solidFill>
                <a:latin typeface="Times New Roman"/>
              </a:rPr>
              <a:t>Defini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Trihineloza je akutno parazitarno oboljenje koje se karakteriše intestinalnim poremećajima, otokom očnih kapaka i bolovima u mišić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ff"/>
                </a:solidFill>
                <a:latin typeface="Times New Roman"/>
              </a:rPr>
              <a:t>Et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Trichinella spiralis, valjkasta gl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ichinellamale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4735440" cy="333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ff"/>
                </a:solidFill>
                <a:latin typeface="Times New Roman"/>
              </a:rPr>
              <a:t>Izvor zara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Životinje, najčešće svinje (divlje i domać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ff"/>
                </a:solidFill>
                <a:latin typeface="Times New Roman"/>
              </a:rPr>
              <a:t>Pacovi, lisice,vukov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enchBoar" descr=""/>
          <p:cNvPicPr/>
          <p:nvPr/>
        </p:nvPicPr>
        <p:blipFill>
          <a:blip r:embed="rId2"/>
          <a:stretch/>
        </p:blipFill>
        <p:spPr>
          <a:xfrm>
            <a:off x="3581280" y="3276720"/>
            <a:ext cx="3314880" cy="2869920"/>
          </a:xfrm>
          <a:prstGeom prst="rect">
            <a:avLst/>
          </a:prstGeom>
          <a:ln w="0">
            <a:noFill/>
          </a:ln>
        </p:spPr>
      </p:pic>
      <p:pic>
        <p:nvPicPr>
          <p:cNvPr id="51" name="Rat" descr=""/>
          <p:cNvPicPr/>
          <p:nvPr/>
        </p:nvPicPr>
        <p:blipFill>
          <a:blip r:embed="rId3"/>
          <a:stretch/>
        </p:blipFill>
        <p:spPr>
          <a:xfrm>
            <a:off x="6477120" y="5029200"/>
            <a:ext cx="225900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happy-pig" descr=""/>
          <p:cNvPicPr/>
          <p:nvPr/>
        </p:nvPicPr>
        <p:blipFill>
          <a:blip r:embed="rId4"/>
          <a:stretch/>
        </p:blipFill>
        <p:spPr>
          <a:xfrm>
            <a:off x="304920" y="3043080"/>
            <a:ext cx="3657600" cy="2799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Putevi prenoš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Hrana – najčešće nedovoljno termički obradjeno meso svinja (sušeno, dimljeno, nedovoljno pečeno) u kome su prisutne žive l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oked_meat" descr=""/>
          <p:cNvPicPr/>
          <p:nvPr/>
        </p:nvPicPr>
        <p:blipFill>
          <a:blip r:embed="rId2"/>
          <a:stretch/>
        </p:blipFill>
        <p:spPr>
          <a:xfrm>
            <a:off x="380880" y="4025880"/>
            <a:ext cx="2895840" cy="2170080"/>
          </a:xfrm>
          <a:prstGeom prst="rect">
            <a:avLst/>
          </a:prstGeom>
          <a:ln w="0">
            <a:noFill/>
          </a:ln>
        </p:spPr>
      </p:pic>
      <p:pic>
        <p:nvPicPr>
          <p:cNvPr id="56" name="smoked_meat1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Ulazna vrata: sluzokoža digestivnog tra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Osetljivost: op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Otpornost: nema imun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Inkubacija: 2-30 dana, prosečno 8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Mehanizam nastanka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ichinella_LifeCycle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38344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ntestinalni stadij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Gadjenje, povraćanje, bolovi u trbuhu, povišen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Stadijum migr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olovi u mišićima, otoci očnih kapak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Visoka temperatura, os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ronhopneumonija, toksični miokarditis, mening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Rekonvalescentni stadij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Stišavanje simptoma, inkapsuliranje i kalcifikacija larvi u mišić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richinella%20eye%20swelling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2571840" cy="183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Laboratorijska dijagno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Materij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K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Sto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Lik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iopsija miši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ELIZ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Kožna alergijska rea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munofluoresc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7:27:43Z</dcterms:created>
  <dc:creator>IZJZ</dc:creator>
  <dc:description/>
  <dc:language>en-US</dc:language>
  <cp:lastModifiedBy>IZJZ</cp:lastModifiedBy>
  <dcterms:modified xsi:type="dcterms:W3CDTF">2009-01-12T09:15:34Z</dcterms:modified>
  <cp:revision>5</cp:revision>
  <dc:subject/>
  <dc:title>TRIHINELOZA</dc:title>
</cp:coreProperties>
</file>