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755-4583-44FF-8978-DA11EC8E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C96-0F84-47FA-B27D-5150721C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A36-E581-44EA-B430-F679C269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295-9A4D-4048-9D18-8743B5ED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04BB-0EB5-43DB-B101-8ACFA423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CC9C-B1EB-4676-8B06-BD99368D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260E-D440-43F8-A940-325C6D1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3C20-F8B7-4AE9-9C26-83281679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9D4F-C361-4899-9EF7-6172D0D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F922-414E-4383-A449-A5837E08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79F9-7E80-424E-98BB-A7D5FD1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907-6CAA-43BF-A35E-A8C5E3A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9506-806C-4738-8FDD-8DAEE761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6058-6B58-4186-A414-79271ED3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AA4-4D00-436A-8674-15F50E4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7EE6-D969-4F01-B0CD-7BBE7E9A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4937-F931-45A3-98A8-F5B6A4BA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C89-9652-4029-BB2A-4BC5466B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D20-AC13-4319-8DF0-12607274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30F-C1AF-493D-8EF1-C5909A7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411-C2E7-40F1-B39D-2452DDBD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C44-BB85-496E-855D-F952736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242-41F9-4F2C-A5C4-575E4BC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684-F3E8-429E-B836-8A48A817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A943-19C1-4578-9A93-761EC150F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67BC-C0FC-4CB7-A5DE-CA8AF9C999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KARDIOVASKULARNE BOLESTI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ss. dr Zorana Deljani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Mortalit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VB predstavljaju vodeći uzrok umiranja u svim delovima sveta osim u subsaharskoj Africi, gde dominiraju zarazne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 Evropi su vodeći uzrok umiran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ko 30% izgubljenih godina života u Evropi nastalo je zbog KV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jveće stope smrtnosti od KVB  su u Rusiji i drugim bivšim socijalističkim zemljama Ev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jniže stope su u Japanu i Francusko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BS, posebno posmatrana, je vodeći uzrok smrti u celom svetu (12%), osim u Africi i na zapadnom Pacifiku. Vodeći je uzrok smrti u Evropi (2 miliona godišnje) –oko 50%o od svih KV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rbija – IBS u strukturi mortaliteta od KVB učestvuje sa oko 19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početku 20. Veka   KVB su u svetu učestvovale u ukupnom mortalitetu sa manje od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ajem dvadesetog veka KVB u mortalitetu učestvuju od 25% (zemlje u razvoju) do 50% (razvijene zeml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2020. U celom svetu učešće KVB u ukupnom mortalitetu iznosiće oko 36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 zadnjoj četvrtini 20. Veka dolazi do opadanja trenda umiranja od KVB u Americi, Australiji i nekim evropskim zemlj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5ffff"/>
                </a:solidFill>
                <a:latin typeface="Tahoma"/>
              </a:rPr>
              <a:t>Trend incidencije i letaliteta od KVB (Monica projekat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8480" y="1682640"/>
          <a:ext cx="7530840" cy="812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8480" y="1682640"/>
                    <a:ext cx="7530840" cy="812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990720" y="1828800"/>
          <a:ext cx="8001000" cy="4654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828800"/>
                    <a:ext cx="800100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5ffff"/>
                </a:solidFill>
                <a:latin typeface="Tahoma"/>
              </a:rPr>
              <a:t>Karakteristike obolelih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zrast i p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adaju u najvažnije faktore riz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ocioekonomske i etničke razlik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lovinom 20. Veka više su obolevale osobe iz višeg socio-ekonomskog statusa, a danas iz nižeg (manja fizička aktivnost, puše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jveći rizik obolevanja ima crna rasa u Americi (gojazniji su, imaju viši krvni pritisa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Faktori rizik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Glavni faktori riz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zrast i pol – Muškarci obolevaju češće nego žene, ali žene posle menopauze češće od muškaraca (gubi se protektivno dejstvo estrogene); sa starošću rizik se poveć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ušenje – povećava rizik za 70%, a pušenje više od 40 cigareta dnevno uvećava ga 200-300%; Prestanak pušenja smanjuje rizik za oko 50% u toku jedne godine , a za 10-15 godina izjednačava se sa rizikom kod nepušač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Faktori rizik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većan nivo LDL holester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većanje ukupnog holester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manjenje HDL holester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Zadovoljavajući nivo holesterola  do 5mm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Granične vrednosti 5-6.5 mmol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isoke vrednosti više od 6.5 mmol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d žena u postmenopauzi holesterol r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Faktori rizik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rterijska hiperten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rast pritiska za 20/10 udvostručava riz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d mladjih osoba važan je i sistolni i dijastolni krvni pritisak, a kod starijih važniji je sistol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ijabe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75-80% dijabetičara umire zbog KV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Žene sa dijabetesom imaju 3-7 puta veći rizik, a muškarci 2-3 puta od nastanka I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Ostali faktori rizik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sledni fakto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Gojaznost (abdominalni ti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Fizička neaktiv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epravilna ishr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ralni kontracepti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sihosocijalni fakto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etabolički sindrom (hipertenzija, gojaznost, dijabetes, hipertrigiceridemija, sniženje HD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fekcije (Clamidia pneumonije, CMV, Helicobacter pylori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PREVENCI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imordijalna preven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ečavanje nastanka i uspostavljanje sredinskih, ekonomskih, socijalnih i bihevijoralnih uslova u populaciji za koje se zna da povećavaju rizik obolevanja (način ishrane, pušenj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čuvanje dobrih navika stanovništva (fizička aktivnost, nepušenje, ishrana siromašna mastima i s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PREVENCI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im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Cilj je smanjenje inciden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rijentacija na opštu populaciju (izmena načina života pojedinaca – pušenje, ishrana i fizička neaktivno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rijentacija na osobe sa velikim rizikom (lečenje hiperholesterolemije, hipertenzije, infekcija, smanjenje gojaznosti i s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034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ARDIOVASKULARNA OBOLJENJ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294920"/>
            <a:ext cx="8207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Predstavljaju veliki epidemiolo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ki problem zbo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.visokog mortaliteta (na prvom mestu me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đ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u definisanim uzrocima smr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.visokog morbiditeta, koji ima karakteristike epidemije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velikih ekonomskih posledica (u smislu gubitka radne sposobnosti i le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nj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Ove bolesti u svetu, uglavnom, pokazuju  trend porasta, koji je, pre svega posledica na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na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vota i rada (nepravilna ishrana, fizi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ka neaktivnost i st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ffff"/>
                </a:solidFill>
                <a:latin typeface="Tahoma"/>
              </a:rPr>
              <a:t>PREVENCI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ekund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ečavanje recidiva neke KVB, progresije bolesti, i snižavanje mortalit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krining: rano otkrivanje bolesti u asimptomatskoj fazi (EKG i test opterećen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ano otkrivanje faktora rizika (hipertenzije, odredjivanje nivoa holesterola, šeće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Klini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ki oblic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.Koronarna bolest srca (u svetu je u porastu, posebno kod mla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đ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h ljud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.Hipertenzija (takodje u porast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Reumatsko oboljenje srca (u nerazvijenim zemljama; u principu u pad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.Uro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đ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ne sr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ne m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.Arterioskleroza (u porastu je, a u neposrednoj vezi je sa hipertenzijom i koronarnom bole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šć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u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mrtnost od KVB je u razvijenim zemljama u padu, a u nerazvijenim u porast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U razvijenim zemljama 40-50% smrtnosti je zbog KVB (najvi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 u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stvuju apopleksij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90000"/>
              </a:lnSpc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Visok pritisak je uobi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jena bolest u svim zemljama.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irektno uti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 na pojavu koronarne bolesti, sr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nog i mo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anog uda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torijski pregl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Period velikih studija koje su pov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e nivo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ja o etiologiji KVB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0-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198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ramingemska stud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ojekat sedam zemal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2.Eksperimentalna potvrda kauzalne povezanosti hiperholesterolemije i hipertenzije sa koronarnim rizikom (1980-199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MO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3. Period publikovanja mnogobrojnih preporuka za prevenciju KVB (posle 199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Epidemiološki značaj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218960"/>
            <a:ext cx="8893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odeći uzrok umiranja u većini razvijenih zema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vake godine u svetu umre 70 miliona ljudi (preko 30% mortalit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1/3 umrlih je u srednjem životnom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načajan uzrok radne nesposob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zrok velikom troškovima zdravstvene zašt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odeći uzrok preveremene smrtnosti (pre 65. god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 razvijenim zemljama dolazi do snižavanja stopa mortaliteta, a u nerazvijenim je u poras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asprostranjenost i učestal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ahoma"/>
              </a:rPr>
              <a:t>Najčešće KVB u fazama epidemiološke tranzic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42920" y="2060640"/>
          <a:ext cx="7619760" cy="455940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z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češće KVB u svim uzrocima smr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ajčešće KV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ošasti i gla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Reumatska bolest srca, kardiomiopatije zbog infekcija i malnutri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ovlačenje pandem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-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Reumatsko oboljenje srčanih valvula, hipertenz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generativnih i ponašajnih boles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5-6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shemijska bolest srca moždani u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dložene pojave degenerativnih bole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oždani udar ishemijska bolest srca kongestivna srčana slab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Incidenci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i u jednoj zemlji ne postoji redovno prikupljanje podataka o incidenciji KV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Uglavnom se koriste podaci MONICA stud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ajčešće se prati ishemijska bolest sr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e5ffff"/>
                </a:solidFill>
                <a:latin typeface="Tahoma"/>
              </a:rPr>
              <a:t>Prosečne godišnje stope incidencije koronarnih dogadjaja 1990-1995 (MONICA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50920" y="1608120"/>
          <a:ext cx="7610400" cy="507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0920" y="1608120"/>
                    <a:ext cx="761040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ahoma"/>
              </a:rPr>
              <a:t>Standardizovane stope mortaliteta muškaraca od KVB u pojedinimj zemljama krajem 20. vek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828800"/>
          <a:ext cx="8153640" cy="45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815364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06:56:56Z</dcterms:created>
  <dc:creator>bb</dc:creator>
  <dc:description/>
  <dc:language>en-US</dc:language>
  <cp:lastModifiedBy>parazitologija1n</cp:lastModifiedBy>
  <dcterms:modified xsi:type="dcterms:W3CDTF">2012-04-25T09:17:19Z</dcterms:modified>
  <cp:revision>19</cp:revision>
  <dc:subject/>
  <dc:title>KARDIOVASKULARNE BOLESTI</dc:title>
</cp:coreProperties>
</file>