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DD95-5A3D-47DE-A7D1-F97EF971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2018-2BF8-4A0E-B333-DC6A5D7B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55F2-3890-4FA6-832C-8318F07AF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E254-41EB-43EB-AEF1-D3D2092C1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4EE6-ABD1-4400-9B2A-E0A2604C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9C03-A7B7-4E71-931A-7269AE6E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334B-911F-49D3-85AA-B25EB2F0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0D54-4F83-44E8-AF2A-80D762C9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B850-D47A-4B35-9962-00C9C26C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A614-D844-4560-B2B3-59D81F7A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6998-17C1-487A-8B59-CD85DADE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E1CA-DB8D-418D-BC6D-632D7761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BE33-372E-479E-8138-B13C6D60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E52C-A272-4C2C-8522-2027C2CE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D48E-85FD-4FB2-92FA-DCCF8E64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7073-424A-4D87-9E06-D9C991B9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72D3-3B90-4911-A897-20BB992B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F809-C6C7-4A35-9C1B-F570FA28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803F-FF35-4BD2-BCC4-219D5167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2FEE-17BD-4EC6-8E04-49A20154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81CC-C657-4E55-B7C8-061A7645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4F8C-34F8-4C0D-9D19-460DEF69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BB7D-3C34-4F64-BEEA-85C9AFAE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A4F8-3586-4BA4-809D-610951D0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15F5-8BFB-4BF4-87E2-8FB916417283}" type="slidenum"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FE83-42AE-4505-9522-5E6A0C536793}" type="slidenum"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800px-Anopheles_albimanus_mosquito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0" spc="-1" strike="noStrike">
                <a:solidFill>
                  <a:srgbClr val="0000ff"/>
                </a:solidFill>
                <a:latin typeface="Arial"/>
              </a:rPr>
              <a:t>Malarija</a:t>
            </a:r>
            <a:endParaRPr b="0" lang="en-US" sz="1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828440" y="5943600"/>
            <a:ext cx="6102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Prof. Dr Branislav Petrović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Putevi prenošenj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ISKLJUČIVO inficirane ženke komarca iz roda Anophele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Transfuzijom krv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Hirurškim zahvatim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Anofelesi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2668320" cy="3728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200400" y="2743200"/>
            <a:ext cx="2332080" cy="2533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943600" y="205740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3520" y="57913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cc"/>
                </a:solidFill>
                <a:latin typeface="Times New Roman"/>
              </a:rPr>
              <a:t>A. maculipennis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5791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A.superpictu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7220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A. Sacharovi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Razlike u položaju na podlozi Culexa i Anopheles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3067200" cy="3067200"/>
          </a:xfrm>
          <a:prstGeom prst="rect">
            <a:avLst/>
          </a:prstGeom>
          <a:ln w="0">
            <a:noFill/>
          </a:ln>
        </p:spPr>
      </p:pic>
      <p:pic>
        <p:nvPicPr>
          <p:cNvPr id="125" name="800px-Anopheles_albimanus_mosquito" descr=""/>
          <p:cNvPicPr/>
          <p:nvPr/>
        </p:nvPicPr>
        <p:blipFill>
          <a:blip r:embed="rId3"/>
          <a:stretch/>
        </p:blipFill>
        <p:spPr>
          <a:xfrm>
            <a:off x="4343400" y="2514600"/>
            <a:ext cx="4267080" cy="2817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38080" y="58672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Culex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5638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Anophel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Ulazna vrata: otkriveni delovi kož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Osetljivost: opšt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Otpornost: imunitet je nesolidan i kratkotrajan, pa su moguće reinfekci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Inkubacij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M. tercijana – oko 2 nedel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M. Tropica – oko 10 da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M. Kvartana – oko 30 dan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Klinička slik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Jeza, drhtavica temperatura do 40 stepeni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Preznojavanje i pad temperatu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Ovakvi simptomi javljaju se (u zavisnosti od tipa malarije) na 48, 72 sata ili svakodnevno (m. Tropika)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Bolest traje 10-15 dan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Ostali simptomi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</a:rPr>
              <a:t>glavobolj</a:t>
            </a:r>
            <a:r>
              <a:rPr b="0" lang="sr-Latn-CS" sz="20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</a:rPr>
              <a:t>, umor, povraćanje, su</a:t>
            </a:r>
            <a:r>
              <a:rPr b="0" lang="sr-Latn-CS" sz="2000" spc="-1" strike="noStrike">
                <a:solidFill>
                  <a:srgbClr val="ffffcc"/>
                </a:solidFill>
                <a:latin typeface="Arial"/>
              </a:rPr>
              <a:t>v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</a:rPr>
              <a:t> kašalj, bolovi u mišićima, povećanje jetre, ili čak nervne disfunkcije i gubitak svijesti. </a:t>
            </a:r>
            <a:r>
              <a:rPr b="0" lang="sr-Latn-CS" sz="2000" spc="-1" strike="noStrike">
                <a:solidFill>
                  <a:srgbClr val="ffffcc"/>
                </a:solidFill>
                <a:latin typeface="Arial"/>
              </a:rPr>
              <a:t>N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</a:rPr>
              <a:t>ajnepovoljnije efekte izaziva </a:t>
            </a:r>
            <a:r>
              <a:rPr b="0" i="1" lang="en-GB" sz="2000" spc="-1" strike="noStrike">
                <a:solidFill>
                  <a:srgbClr val="ffffcc"/>
                </a:solidFill>
                <a:latin typeface="Arial"/>
              </a:rPr>
              <a:t>P. falciparum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Laboratorijska dijagnostik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Gusta kap i periferni razmaz krvi uzete u vreme napada ili neposredno posle njeg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057400" y="3276720"/>
            <a:ext cx="4600440" cy="30844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Raširenostu svetu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Arial"/>
              </a:rPr>
              <a:t>V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iše od 40% svjetsk</a:t>
            </a:r>
            <a:r>
              <a:rPr b="0" lang="sr-Latn-CS" sz="2400" spc="-1" strike="noStrike">
                <a:solidFill>
                  <a:srgbClr val="ffffcc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ffffcc"/>
                </a:solidFill>
                <a:latin typeface="Arial"/>
              </a:rPr>
              <a:t>populacije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živi u područjima  zahvaćenim malarijom i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mili</a:t>
            </a: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oni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 ljudi godišnje od nje umire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, uglavnom djece ispod 5 godina i trudnica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vak</a:t>
            </a: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og</a:t>
            </a:r>
            <a:r>
              <a:rPr b="1" lang="en-GB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inut</a:t>
            </a:r>
            <a:r>
              <a:rPr b="1" lang="sr-Latn-CS" sz="2400" spc="-1" strike="noStrike">
                <a:solidFill>
                  <a:srgbClr val="ffcc00"/>
                </a:solidFill>
                <a:latin typeface="Times New Roman"/>
              </a:rPr>
              <a:t>a</a:t>
            </a:r>
            <a:r>
              <a:rPr b="1" lang="en-GB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u svetu umire </a:t>
            </a:r>
            <a:r>
              <a:rPr b="1" lang="sr-Latn-CS" sz="2400" spc="-1" strike="noStrike">
                <a:solidFill>
                  <a:srgbClr val="ffcc00"/>
                </a:solidFill>
                <a:latin typeface="Times New Roman"/>
              </a:rPr>
              <a:t>dvoje</a:t>
            </a: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djece od malarije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Oko 90% akutno oboljelih nalazi se u subsaharskoj Africi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Raširenost u svet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9" name="malarija1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2936880" cy="3891240"/>
          </a:xfrm>
          <a:prstGeom prst="rect">
            <a:avLst/>
          </a:prstGeom>
          <a:ln w="0">
            <a:noFill/>
          </a:ln>
        </p:spPr>
      </p:pic>
      <p:pic>
        <p:nvPicPr>
          <p:cNvPr id="140" name="malarija2" descr=""/>
          <p:cNvPicPr/>
          <p:nvPr/>
        </p:nvPicPr>
        <p:blipFill>
          <a:blip r:embed="rId3"/>
          <a:stretch/>
        </p:blipFill>
        <p:spPr>
          <a:xfrm>
            <a:off x="3733920" y="1066680"/>
            <a:ext cx="5105160" cy="3895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33520" y="5122800"/>
            <a:ext cx="8229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imes New Roman"/>
              </a:rPr>
              <a:t>U Srbiji javljaju se pojedinačni slučajevi importovane malarije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imes New Roman"/>
              </a:rPr>
              <a:t>Malarija je iskorenjena (eradicirana) u Srbiji 1965. godine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Profilaksa malari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Uništavanje malaričnih komaraca(insekticidima) i njihovih larvi (isušivanjem močvara i bara, insekticidim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Korišćenje repelenata i mehaničkih zaštitnih sredstav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Hemioprofilaksa antimalaricim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Vakcina je u fazi ispitivanj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Definicij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Malarija je akutna ili hronična OBLIGATNO transmisivna endemo-epidemična protozoalna antroponoza čije uzročnike prenose komarci iz roda anofeles. Rasprostranjena je širom svet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Suzbijanje malari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Prijavljivanje oboleli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Hospitalizacija i lečen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Laboratorijsko ispitivanje obolelih, sumnjivih i parazitonoš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Dezinsekcij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49760"/>
            <a:ext cx="2578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Etiologij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8680" y="914040"/>
            <a:ext cx="8208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Plasmodium vivax – uzroičnik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malarije tercijan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Plasmodium falciparum – uzročnik malarije tropik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Plasmodium malariae – uzročnik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malarije kvartan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Plasmodium ovale – uzročnik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malarije slične tercijan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5" name="pl%20vivax" descr=""/>
          <p:cNvPicPr/>
          <p:nvPr/>
        </p:nvPicPr>
        <p:blipFill>
          <a:blip r:embed="rId2"/>
          <a:stretch/>
        </p:blipFill>
        <p:spPr>
          <a:xfrm>
            <a:off x="6705720" y="609480"/>
            <a:ext cx="1904760" cy="1409760"/>
          </a:xfrm>
          <a:prstGeom prst="rect">
            <a:avLst/>
          </a:prstGeom>
          <a:ln w="0">
            <a:noFill/>
          </a:ln>
        </p:spPr>
      </p:pic>
      <p:pic>
        <p:nvPicPr>
          <p:cNvPr id="96" name="plasm%20falciparum" descr=""/>
          <p:cNvPicPr/>
          <p:nvPr/>
        </p:nvPicPr>
        <p:blipFill>
          <a:blip r:embed="rId3"/>
          <a:stretch/>
        </p:blipFill>
        <p:spPr>
          <a:xfrm>
            <a:off x="7238880" y="2057400"/>
            <a:ext cx="1217880" cy="1517760"/>
          </a:xfrm>
          <a:prstGeom prst="rect">
            <a:avLst/>
          </a:prstGeom>
          <a:ln w="0">
            <a:noFill/>
          </a:ln>
        </p:spPr>
      </p:pic>
      <p:pic>
        <p:nvPicPr>
          <p:cNvPr id="97" name="pl%20ovale" descr=""/>
          <p:cNvPicPr/>
          <p:nvPr/>
        </p:nvPicPr>
        <p:blipFill>
          <a:blip r:embed="rId4"/>
          <a:stretch/>
        </p:blipFill>
        <p:spPr>
          <a:xfrm>
            <a:off x="7162920" y="5181480"/>
            <a:ext cx="1371600" cy="1365480"/>
          </a:xfrm>
          <a:prstGeom prst="rect">
            <a:avLst/>
          </a:prstGeom>
          <a:ln w="0">
            <a:noFill/>
          </a:ln>
        </p:spPr>
      </p:pic>
      <p:pic>
        <p:nvPicPr>
          <p:cNvPr id="98" name="Plasmodium_malariae_01" descr=""/>
          <p:cNvPicPr/>
          <p:nvPr/>
        </p:nvPicPr>
        <p:blipFill>
          <a:blip r:embed="rId5"/>
          <a:stretch/>
        </p:blipFill>
        <p:spPr>
          <a:xfrm>
            <a:off x="6781680" y="3632040"/>
            <a:ext cx="213372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616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Uzročnici malari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64832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Arial"/>
              </a:rPr>
              <a:t>Plasmodium vivax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47920" y="1752480"/>
            <a:ext cx="5000400" cy="5105520"/>
            <a:chOff x="1447920" y="1752480"/>
            <a:chExt cx="5000400" cy="510552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447920" y="1752480"/>
              <a:ext cx="5000400" cy="51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 txBox="1"/>
            <p:nvPr/>
          </p:nvSpPr>
          <p:spPr>
            <a:xfrm>
              <a:off x="1447920" y="1752480"/>
              <a:ext cx="5000400" cy="5105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00"/>
                </a:spcBef>
                <a:buClr>
                  <a:srgbClr val="ccff33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Plasmodium falcipau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057400" y="1447920"/>
            <a:ext cx="4626000" cy="47242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Plasmodium oval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841400" y="1371600"/>
            <a:ext cx="522288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Plasmodium malaria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76520" y="1600200"/>
            <a:ext cx="492264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226800"/>
            <a:ext cx="86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Arial"/>
              </a:rPr>
              <a:t>Razvojni ciklusi plazmodija u komarcu i čoveku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52280" y="838080"/>
            <a:ext cx="8839440" cy="58676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Izvor zaraz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Čovek je jedini izvor zaraze (bolestan čovek ili parazitonoš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Psihičke i fizičke traume mogu da provociraju kod kliconoša recidive malari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Dužina nosilaštva parazit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Kod tercijane – do 3 godi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Kod tropike – do 1 godi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Kod kvartane – od 5-20 godin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0:18:31Z</dcterms:created>
  <dc:creator>IZJZ</dc:creator>
  <dc:description/>
  <dc:language>en-US</dc:language>
  <cp:lastModifiedBy>IZJZ</cp:lastModifiedBy>
  <dcterms:modified xsi:type="dcterms:W3CDTF">2009-01-14T07:37:29Z</dcterms:modified>
  <cp:revision>5</cp:revision>
  <dc:subject/>
  <dc:title>Malarija</dc:title>
</cp:coreProperties>
</file>